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168-9ED7-4930-8CEE-B804B9BE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823-FC9F-4D2E-AF2E-5711B00F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416-A2A1-48F4-A125-896990F6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9F0-4386-4D32-85A4-EF703AA0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0CB-2056-464D-A155-8F25063D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350-3AB2-4DBB-BB73-5AE9640D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FBC-D929-4CB8-8AB3-446E436F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F2F-C177-4B53-AA6F-385DA573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EBE-821E-4854-8757-1871C857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05A-04F2-47C9-84F4-0121C73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6D1-FDF4-4C35-B9DB-011AD1DE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B65-9F0D-4AA0-825B-A775DF04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4D8A-6BFC-4F6F-AF6D-577B83214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" Target="slide29.xml"/><Relationship Id="rId4" Type="http://schemas.openxmlformats.org/officeDocument/2006/relationships/slide" Target="slide25.xml"/><Relationship Id="rId5" Type="http://schemas.openxmlformats.org/officeDocument/2006/relationships/slide" Target="slide28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" Target="slide4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isoning of Buzz Light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By. Jorge More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lamm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one of the drinks in a beaker about halfway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the match by striking it against the side of the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match in one hand, pick the beaker up with the other han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without blowing out the fire, drop the match into the liqui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 what happe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se procedures for each dr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each of the drink in separate spaces on the well p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less than half a spoonful of baking soda into one of the liq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for any rea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what you observ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se procedures for each dri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0"/>
          <a:ext cx="9144000" cy="6919920"/>
        </p:xfrm>
        <a:graphic>
          <a:graphicData uri="http://schemas.openxmlformats.org/drawingml/2006/table">
            <a:tbl>
              <a:tblPr/>
              <a:tblGrid>
                <a:gridCol w="1306440"/>
                <a:gridCol w="1346400"/>
                <a:gridCol w="1511280"/>
                <a:gridCol w="898560"/>
                <a:gridCol w="1387440"/>
                <a:gridCol w="1550880"/>
                <a:gridCol w="11430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Dri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ensi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onductiv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Optical Propert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Flammabil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eactiv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ig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lcoh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ow or 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alt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Very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ittle bub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Vine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Fizz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Grape Dr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ark pur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Opa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emonade with Pu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 little fog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luc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rime Scene Liqu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8458200" cy="702936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Dri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er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substance or 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 or Heteroge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Pure: Element or 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t’s clear, but no odor. Also not a good con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 a good conductor, but very flamm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t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ter con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ne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ter con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pe dr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zzles with F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monade with Pu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ter con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me scene 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ear with no 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610480" y="152280"/>
            <a:ext cx="533520" cy="655344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ap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ap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304920" y="1371600"/>
            <a:ext cx="2819160" cy="2209680"/>
          </a:xfrm>
          <a:prstGeom prst="lightningBol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3048120" y="1143000"/>
            <a:ext cx="2666880" cy="2971800"/>
          </a:xfrm>
          <a:custGeom>
            <a:avLst/>
            <a:gdLst>
              <a:gd name="textAreaLeft" fmla="*/ 1098720 w 2666880"/>
              <a:gd name="textAreaRight" fmla="*/ 1568160 w 2666880"/>
              <a:gd name="textAreaTop" fmla="*/ 1224360 h 2971800"/>
              <a:gd name="textAreaBottom" fmla="*/ 174744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6095880" y="1676520"/>
            <a:ext cx="2819520" cy="23619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371600" y="4114800"/>
            <a:ext cx="2895480" cy="25909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4495680" y="4267080"/>
            <a:ext cx="2819520" cy="22100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each of the wraps in separate spaces on the well p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color of each wra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what you ob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du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each of the wraps in separate spaces on the well pl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get the conductivity meter and turn it 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the rods at the end are not touch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lights on the front and see what the conductivity level is on the b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conductivity level.</a:t>
            </a:r>
            <a:r>
              <a:rPr b="0" lang="en-US" sz="2800" spc="-1" strike="noStrike">
                <a:solidFill>
                  <a:srgbClr val="45818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 the each wrap on the platform of the triple beam balance one at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weights until its completely level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m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that get a graduated cylinder and fill it up to 50 mL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e wrap into the graduated cylinder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how much the water ro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tract that number form the original 60 to find the vol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vol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mass by its volume to find the density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 the dens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lle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each of the wraps in separate spaces on the well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forceps to attempt to bend or dent the wr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Materials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ple Beam Balance, Hand lens, Stirring Rods, Paper cups, Spoons, Matches, Hot Plates, Iodine, Well Plate, Beakers, Eye Droppers, Sodium Bicarbonate, Conductivity Meter, Balance, Graduated Cylinder, Hydrochloric Acid, Goggles, Force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each of the wraps in separate spaces on the well pla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b an eyedropper and a beaker of hydrochloric ac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p few drops of hydrochloric acid on one wra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 the wraps with a hand le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record your observations.</a:t>
            </a:r>
            <a:r>
              <a:rPr b="0" lang="en-US" sz="3200" spc="-1" strike="noStrike">
                <a:solidFill>
                  <a:srgbClr val="45818e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0"/>
          <a:ext cx="8381880" cy="6858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6800"/>
                <a:gridCol w="1397160"/>
                <a:gridCol w="139680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War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le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u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g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1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or 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5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ute bubb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7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z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f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l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or 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me Scene Wr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7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z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0" y="0"/>
          <a:ext cx="8458200" cy="682164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Wra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erv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substance or Mix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 or Heterogene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Pure:Element or 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ple, crinkly, very easily manipul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ix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umi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ilver, hard, very smoo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in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ilver, very smooth, has a very light mas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p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ronze, very smooth, easily bent with forcep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r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ilver, clinks when dropped on t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f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Yellow, smells of rotten eggs, but chunkier than 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me Scene Wr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Very light, and smooth. Good conducto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8610480" y="152280"/>
            <a:ext cx="533520" cy="655344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wder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ro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bi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polyacry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corb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wder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228600" y="1371600"/>
            <a:ext cx="3048120" cy="2362320"/>
          </a:xfrm>
          <a:prstGeom prst="lightningBol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3048120" y="1143000"/>
            <a:ext cx="2666880" cy="2971800"/>
          </a:xfrm>
          <a:custGeom>
            <a:avLst/>
            <a:gdLst>
              <a:gd name="textAreaLeft" fmla="*/ 1098720 w 2666880"/>
              <a:gd name="textAreaRight" fmla="*/ 1568160 w 2666880"/>
              <a:gd name="textAreaTop" fmla="*/ 1224360 h 2971800"/>
              <a:gd name="textAreaBottom" fmla="*/ 174744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6095880" y="1676520"/>
            <a:ext cx="2819520" cy="23619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1371600" y="4114800"/>
            <a:ext cx="2895480" cy="25909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mm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6" action="ppaction://hlinksldjump"/>
          </p:cNvPr>
          <p:cNvSpPr/>
          <p:nvPr/>
        </p:nvSpPr>
        <p:spPr>
          <a:xfrm>
            <a:off x="4495680" y="4267080"/>
            <a:ext cx="2819520" cy="22100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u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half a spoonful of each of the powders in separate spaces on the well plat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get a beaker of water with an eyedropper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 up some water in the eyedr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the eyedropper and drop a couple drops of water over each powder so you can tell the powder wet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r the powder for at least 60 second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there is less powder in the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half a spoonful of each of the powders in separate spaces on the well p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get a beaker of vinegar with an eyedr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 up some vinegar in the eyedropper and drop two to four on each pow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hand lens in to see reactions in the pow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l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r 5x5 inches pieces of aluminum foil then place on the top of the hot plate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a spoonful of each powder on separate hot plate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the hot plates to 330</a:t>
            </a:r>
            <a:r>
              <a:rPr b="0" lang="en-US" sz="3200" spc="-1" strike="noStrike">
                <a:solidFill>
                  <a:srgbClr val="ffffff"/>
                </a:solidFill>
                <a:latin typeface="Times New Roman1"/>
              </a:rPr>
              <a:t>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if any of the powders begin to m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lamm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r a piece of aluminum foil that is 8x8 inches bi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the aluminum foil on a sturdy tabl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a spoonful of each powder onto each piece of aluminum foil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take out a match from the matchbox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the match by striking it against the side of the matchbox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the match is lit, carefully put the match on the pow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.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du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half a spoonful of each of the powders in separate spaces on the well p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get a beaker of water with an eyedropp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 up some water in the eyedrop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the eyedropper and drop a couple drops of water over each powder so you can tell the powder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r until most of the powder is diss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the powder has dissolved, turn the conductivity meter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the rods at the end are not touching and put it in each dissolved pow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two lights on the front and and see what the conductivity level is on the ba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La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3762360" cy="212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280" y="3886200"/>
            <a:ext cx="2971800" cy="2754360"/>
          </a:xfrm>
          <a:prstGeom prst="rect">
            <a:avLst/>
          </a:prstGeom>
          <a:ln w="0">
            <a:noFill/>
          </a:ln>
        </p:spPr>
      </p:pic>
      <p:pic>
        <p:nvPicPr>
          <p:cNvPr id="51" name="fd01164_" descr=""/>
          <p:cNvPicPr/>
          <p:nvPr/>
        </p:nvPicPr>
        <p:blipFill>
          <a:blip r:embed="rId5"/>
          <a:stretch/>
        </p:blipFill>
        <p:spPr>
          <a:xfrm>
            <a:off x="5486400" y="34290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77120" y="304920"/>
            <a:ext cx="223668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1430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447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t D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w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304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486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r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0" y="0"/>
          <a:ext cx="7650000" cy="6262560"/>
        </p:xfrm>
        <a:graphic>
          <a:graphicData uri="http://schemas.openxmlformats.org/drawingml/2006/table">
            <a:tbl>
              <a:tblPr/>
              <a:tblGrid>
                <a:gridCol w="1213920"/>
                <a:gridCol w="1062000"/>
                <a:gridCol w="1441440"/>
                <a:gridCol w="1062000"/>
                <a:gridCol w="1137960"/>
                <a:gridCol w="1517400"/>
                <a:gridCol w="21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ow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lubil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onductiv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elt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Reactiv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lammabil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ucros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Low to non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 reac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aking Sod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edium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izz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dium Polyacrylat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—absorbs the vineg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dium Chlorid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Very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 reac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scorbic Aci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Low to non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 reac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rime Scene Powd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Low to non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 reac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0" y="0"/>
          <a:ext cx="8229600" cy="6810480"/>
        </p:xfrm>
        <a:graphic>
          <a:graphicData uri="http://schemas.openxmlformats.org/drawingml/2006/table">
            <a:tbl>
              <a:tblPr/>
              <a:tblGrid>
                <a:gridCol w="1644480"/>
                <a:gridCol w="1692360"/>
                <a:gridCol w="1602000"/>
                <a:gridCol w="1646280"/>
                <a:gridCol w="164448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ow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erv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substance or Mix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 or Heterogene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Pure:Element or 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ucros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luble, non-reactive, medium condu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aking S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n-soluble, high conductivity, fizzes to vineg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dium Polyacrylat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n-soluble, high conductivity, bubbles when re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dium Chlorid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luble, high conductivity, no re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scorbic Aci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n-soluble but cloudy, high conductiv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rime Scene Powd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luble, low conductivity,,non-flamm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152280"/>
            <a:ext cx="533520" cy="655344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 Dogs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pork hot d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pork hot d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8% fat free hot d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 Dog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191120"/>
            <a:ext cx="3048120" cy="25146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1828800"/>
            <a:ext cx="2819160" cy="23623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038480"/>
            <a:ext cx="2895480" cy="25909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Squee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295280"/>
            <a:ext cx="2666880" cy="2971800"/>
          </a:xfrm>
          <a:custGeom>
            <a:avLst/>
            <a:gdLst>
              <a:gd name="textAreaLeft" fmla="*/ 1098720 w 2666880"/>
              <a:gd name="textAreaRight" fmla="*/ 1568160 w 2666880"/>
              <a:gd name="textAreaTop" fmla="*/ 1224360 h 2971800"/>
              <a:gd name="textAreaBottom" fmla="*/ 174744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4419720"/>
            <a:ext cx="2819160" cy="22096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Squee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Squeezed M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the piece of hot dog on the platform of the triple beam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weight it’s completely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m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s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the piece of hot dog on the platform of the triple beam bal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weight until it’s completely lev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m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recording the mass, get a graduated cylinder and fill it up with 50 mL of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one hot dog into the graduated cylin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 much the hot dog rose is the volu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volu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mass by its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dens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 Squeezed M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 piece of hot dog and place it in your h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your hand to squeeze the hot dog until the juices come out. Make sure not to lose any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the solid pieces of the hot dog on a triple-beam bal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weights until it’s completely lev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m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pe the platform clean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uctivit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a piece of hot do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that the rods at the end are not touc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 the rods into the meaty part hot do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two lights and see what the conductivity level is on the back. Take the conductivity meter out of the hot do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pe the rods of the conductivity meter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tivit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a piece of hot do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r it a little so that the meat parts are out and place it in a space on the well pl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a small amount of iodine with an eyedrop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wo drops of iodine from the eye dropper to the hot do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0" y="0"/>
          <a:ext cx="8458200" cy="6095880"/>
        </p:xfrm>
        <a:graphic>
          <a:graphicData uri="http://schemas.openxmlformats.org/drawingml/2006/table">
            <a:tbl>
              <a:tblPr/>
              <a:tblGrid>
                <a:gridCol w="1409760"/>
                <a:gridCol w="1485720"/>
                <a:gridCol w="1524240"/>
                <a:gridCol w="1218960"/>
                <a:gridCol w="1409760"/>
                <a:gridCol w="1409760"/>
              </a:tblGrid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ot Do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ass Pre-squeez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ass Post-squeez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ens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onductiv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Reactiv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ork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.8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.5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.1g/m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urned purp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Light Pork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.5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.09g/m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 reactio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at Fre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8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1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.11g/m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urned br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rime Scen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Hot D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.8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.6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.2g/m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urned purp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ink Materia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mon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e ju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t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n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0" y="0"/>
          <a:ext cx="8229600" cy="5676840"/>
        </p:xfrm>
        <a:graphic>
          <a:graphicData uri="http://schemas.openxmlformats.org/drawingml/2006/table">
            <a:tbl>
              <a:tblPr/>
              <a:tblGrid>
                <a:gridCol w="1644480"/>
                <a:gridCol w="1692360"/>
                <a:gridCol w="1602000"/>
                <a:gridCol w="1646280"/>
                <a:gridCol w="1644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ow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er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substance or 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 or Heteroge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Pure:Element or 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ork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urns purple when re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Light Por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 conductivity, no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at Fre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 conductivity, no reactio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rime Scene Hot D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 conductivity, turns purple when reac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8610480" y="152280"/>
            <a:ext cx="533520" cy="655344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ink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2895480" y="4191120"/>
            <a:ext cx="3048120" cy="25146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304920" y="1371600"/>
            <a:ext cx="2819160" cy="2209680"/>
          </a:xfrm>
          <a:prstGeom prst="lightningBol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6095880" y="1676520"/>
            <a:ext cx="2819520" cy="23619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5" action="ppaction://hlinksldjump"/>
          </p:cNvPr>
          <p:cNvSpPr/>
          <p:nvPr/>
        </p:nvSpPr>
        <p:spPr>
          <a:xfrm>
            <a:off x="228600" y="4038480"/>
            <a:ext cx="2895480" cy="25909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6" action="ppaction://hlinksldjump"/>
          </p:cNvPr>
          <p:cNvSpPr/>
          <p:nvPr/>
        </p:nvSpPr>
        <p:spPr>
          <a:xfrm>
            <a:off x="3048120" y="1143000"/>
            <a:ext cx="2666880" cy="2971800"/>
          </a:xfrm>
          <a:custGeom>
            <a:avLst/>
            <a:gdLst>
              <a:gd name="textAreaLeft" fmla="*/ 1098720 w 2666880"/>
              <a:gd name="textAreaRight" fmla="*/ 1568160 w 2666880"/>
              <a:gd name="textAreaTop" fmla="*/ 1224360 h 2971800"/>
              <a:gd name="textAreaBottom" fmla="*/ 174744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7" action="ppaction://hlinksldjump"/>
          </p:cNvPr>
          <p:cNvSpPr/>
          <p:nvPr/>
        </p:nvSpPr>
        <p:spPr>
          <a:xfrm>
            <a:off x="6019920" y="4419720"/>
            <a:ext cx="2819160" cy="22096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mm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1640" indent="-611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all the liquids in separate beakers with eyedroppers in them and another beaker full of water with an eyedrop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a small test tube and drip three-five drops of water into the graduated cylin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wards drip two drops of the liquid in the graduated cylinder so that it slides down the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 the liquid goes under or above the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that empty it out and repeat the steps above for each of the liquids. This should create a density colum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du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 each liquid in separate spaces on the well p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take the conductivity meter and turn it 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that the rods at the end are not touch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wards place the conductivity meter in each of the liqui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each Look at the lights in the front and see the conductivity level on the b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conductivity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each of the liquids in separate spaces on the well pl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color of each of the drin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.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pt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each of the drink in separate spaces on the well p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optical properties of each of the drin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they’re each transparent, translucent or opa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.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2:15:07Z</dcterms:created>
  <dc:creator>Jorge Moretti</dc:creator>
  <dc:description/>
  <dc:language>en-US</dc:language>
  <cp:lastModifiedBy>Jorge Moretti</cp:lastModifiedBy>
  <dcterms:modified xsi:type="dcterms:W3CDTF">2010-10-06T22:40:45Z</dcterms:modified>
  <cp:revision>4</cp:revision>
  <dc:subject/>
  <dc:title>The Poisoning of Buzz Lightyear</dc:title>
</cp:coreProperties>
</file>